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2BD-3F04-4B4C-A306-5C63C2E1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242-E75C-413F-9210-863D2DF9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711-D4A2-46A7-AA14-5F8C5EA6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E81-D472-49BC-A2B3-2055CB1B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4F1-2AA7-44B5-AB89-B5FE8B34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551-504B-4D25-A2DD-633E250B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B0B-2E9A-40BF-8D12-D44B3489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621-087B-450C-80A0-ED6FFFCE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13D-D919-4D33-861F-839BF0E5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802-331D-4F82-9E04-96284E31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18C-23CD-4103-AA0D-E57EC9F0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54D-F413-4762-947E-739E2917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A93D-8858-4D89-B858-55B984C04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88000" y="189000"/>
            <a:ext cx="4356000" cy="74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  </a:t>
            </a: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23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работи прилежно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зай, доде трепти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щ слънчев лъч тъй нежно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горе в висоти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одето слънце грее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зай ти в пътя си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ей, веч нощта тъмнее -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зай, рабо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27640" y="333360"/>
            <a:ext cx="4716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работи прилежно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ъв силний слънчев пек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лед делото успешно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чакай отдих лек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ек' таз минута златна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да мине в подвиг свят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труд, с вяра непоклатна дните да лет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48360" y="158760"/>
            <a:ext cx="39243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работи прилежно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денят ощ' дор светлей; докат' небе безбрежно              още руменей!                          Бързай преди лъч сетен               се скрий зад планини,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изчезне кат' последен                  в нощни тъмнини!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3:36:21Z</dcterms:created>
  <dc:creator>TrifonTrifonow</dc:creator>
  <dc:description/>
  <dc:language>en-US</dc:language>
  <cp:lastModifiedBy>TrifonTrifonow</cp:lastModifiedBy>
  <dcterms:modified xsi:type="dcterms:W3CDTF">2005-12-01T20:41:27Z</dcterms:modified>
  <cp:revision>8</cp:revision>
  <dc:subject/>
  <dc:title>Slide 1</dc:title>
</cp:coreProperties>
</file>